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87D-7504-47FF-98D4-0B8982E8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19F-C680-40F8-90D6-18343B7C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439C-0BEB-4609-AF38-82B366A7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705-A96A-4400-9E90-374F8096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2456-3DB7-4951-B31C-B16C7C96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90BF-16A8-4014-8A04-95E10968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A787-9E8C-4EC3-8424-9745BF91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70CE-B1BA-47FF-A7CB-7A176AD2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7309-1589-43D0-A261-40B749E3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9D48-76F3-4625-A871-998B3034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583E-7218-49FE-9B5B-58026A3F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D80-3052-4295-91C9-92BA25E1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A4E6-BD41-483B-BC45-39856190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D49C-31B9-4BE2-9FA2-D4E4EF08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CE1C-950C-4999-9A37-F646F5DD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68D0-BD64-4C60-A202-1AF81D2A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128F-638D-424F-971A-D47CD732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397-4CEF-4471-804B-9877E9B1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D278-0E08-471C-A24F-2E06ED45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8268-AC0B-4619-AC68-B8B15929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EA4-5710-46A2-A027-28D5D6E2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37F-143D-403B-A1F2-2EF7DE1C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B8E-1038-40C0-8975-2CA844DA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D6B-7E88-4532-A33B-1B68EBBF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AF5A-975A-4FC8-9DD6-08C26A7112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EE4D-FF69-4117-8D4B-63BA933B21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44880" y="3182760"/>
            <a:ext cx="1641240" cy="1644840"/>
          </a:xfrm>
          <a:prstGeom prst="ellipse">
            <a:avLst/>
          </a:prstGeom>
          <a:solidFill>
            <a:srgbClr val="cccc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13320" y="1459080"/>
            <a:ext cx="4408200" cy="440820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 19115 –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8840" y="2230560"/>
            <a:ext cx="4341960" cy="4341600"/>
          </a:xfrm>
          <a:prstGeom prst="ellipse">
            <a:avLst/>
          </a:prstGeom>
          <a:solidFill>
            <a:srgbClr val="d8d8e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 19115/N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2960" y="3052800"/>
            <a:ext cx="2741760" cy="2741400"/>
          </a:xfrm>
          <a:prstGeom prst="ellipse">
            <a:avLst/>
          </a:prstGeom>
          <a:solidFill>
            <a:srgbClr val="80808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GDC Rem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ing 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volution of  Metadata Standard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82880" y="3421080"/>
            <a:ext cx="3198600" cy="3198960"/>
          </a:xfrm>
          <a:prstGeom prst="ellipse">
            <a:avLst/>
          </a:prstGeom>
          <a:solidFill>
            <a:srgbClr val="7e9ce8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G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56040" y="3919680"/>
            <a:ext cx="1641600" cy="1644480"/>
          </a:xfrm>
          <a:prstGeom prst="ellipse">
            <a:avLst/>
          </a:prstGeom>
          <a:solidFill>
            <a:srgbClr val="cccc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e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0:53:13Z</dcterms:created>
  <dc:creator>Lynda Wayne</dc:creator>
  <dc:description/>
  <dc:language>en-US</dc:language>
  <cp:lastModifiedBy>Ted Habermnn</cp:lastModifiedBy>
  <dcterms:modified xsi:type="dcterms:W3CDTF">2007-08-02T17:07:53Z</dcterms:modified>
  <cp:revision>52</cp:revision>
  <dc:subject/>
  <dc:title>FGDC Future Directions: Metadata Performance Indicators</dc:title>
</cp:coreProperties>
</file>